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B31-AA59-4179-A7A3-F0446D9D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5BA-069F-465D-A669-C1A56FC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92D-53E0-4021-81E2-D971E2AC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B1B-C925-424C-919B-EC7D19AE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503-C0EB-4295-894A-951F3A85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754D-949F-4147-8691-E97E52CD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27D-B89A-4833-8E68-A3ECD9D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149-F35E-4B53-9867-A7C93A2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54B-A1BA-40D5-93B1-32B2311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7BEF-9D0F-4FB8-BCA1-A40EE54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39DD-4712-4041-B9CF-D5C1A34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70B-A048-482B-A70D-AC41C3B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C183-E6AD-426F-AE6A-87A2A5C3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DDC-9A1B-41B1-817D-C398279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E3DA-8DA0-42A3-B03C-D4BCC56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AC27-67F3-40A0-AC16-3106206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1D4A-A4A5-47F1-9345-D44101C7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9F6-2FD8-4158-A025-B990255D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EB5-4EFB-4F81-A758-A04D0ED6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8E7-8707-4A51-A732-014407D0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751-A61B-40BB-B076-12362DD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1EC-5F93-4982-B383-F6F5888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3FA-320D-49EC-827F-CD6AF4E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AD6-A90A-43EF-91F1-5CFF580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C90-CD31-4F46-AF7B-5AF29B4F4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CF8-51B6-4022-911C-FED34C2A34A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34240" cy="13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DAPTIVE RELIABLE MULTIPATH PROVISIONING IN SURVIVABLE WDM MESH NETWORK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ROPOSED WOR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A proposal to “adaptive reliable multipath provisioning in survivable WDM mesh networks”. Has to satisf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duction in cos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creases connection availability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rformance of network load vs. bandwidth blocking ratio will be verifi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 lab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 and B. Mukherjee, “A comprehensive study on backup bandwidth reprovisioning after network-state updates in survivable telecom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,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l. 16, no. 6, pp. 1366–1377, Dec. 2008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, J. Zhang, and B. Mukherjee, “Dynamic provisioning with availability guarantee for differentiated services in survivabl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 J. Sel. Areas Common., vol. 25, </a:t>
            </a: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. 3, pp. 35–43, Apr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. Rai, O. Deshpande, C. Ou, C. Martel, and B. Mukherjee, “Reliable multipath provisioning for high-capacity backbon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4, pp.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3–812, Aug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28600" y="3049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Zhou, M. Held, and U. Sennhauser, “Connection availability analysis of shared backup path-protected mesh networks,” Light wave Technol., vol. 25, no. 5, pp. 1111–1119, May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.Zhang, K. Zhu, H. Zang, N. S. Matloff, and B. Mukherjee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vailability-aware provisioning strategies for differentiated protection services in wavelength-convertible WDM mesh networks,” </a:t>
            </a:r>
            <a:r>
              <a:rPr b="0" lang="nl-NL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5, pp. 1177–1190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t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Das, C. Martel, B. Mukherjee, and S. Rai, “A better approach to reliable multi-path provisioning,” in IEEE Global </a:t>
            </a:r>
            <a:r>
              <a:rPr b="0" lang="fr-F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élécommunications Conf.,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GENDA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219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e surve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blem state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posed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390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avelength division multiplex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ltiple optical carrier signals of unique wavelengths on a single fiber cabl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WD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igh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remely low error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signal atten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re sec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8148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51400" y="332100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049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-304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ypical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nection reques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requires two parame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tection from network failu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urviv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bility to remain alive or continue to exist the network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48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36194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2438280"/>
            <a:ext cx="4343400" cy="351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tual concatenation(VCA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eaks the bandwidth into individual payload  at the source end and  concatenated at destination no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ables  reliable multipath  techniqu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46960" indent="-246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nk Capacity Adjustment scheme (LCAS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rotocol for dynamic adding/removing of VCAT member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ides the capability of temporarily removing member links that  have experienced a fail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29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06668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ITERATURE SURVE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ynamic provision with availability guarantee  for differentiated services in mesh networ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ckup reprovisioning to remedy the effect of multiple link failures in WDM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rvivable virtual concatenation for data over SONET/SDH in optical transport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nection availability analysis of shared backup path-protected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ptimal path selection for minimizing the differential delay in Ethernet-over-SON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o provide an efficient connection availability in multipath provision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52:07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